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E7E-8166-4AE2-BD0F-CC1A441B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1A3-97A7-4821-BEB6-78C4DB3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572-FAD2-4DE4-9593-3F79F904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E39-2EB1-483A-8201-9808053A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2D0-E19B-4B40-8B6B-F345E38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463-B8BF-46FE-AC9C-1E36D865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D71-3A42-485C-9FE1-54BA67CF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C5E-EE54-4B8F-9260-BEF0F463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2FA-9673-4C61-AD13-B690CE1D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394-D045-4AFD-8097-A2B07ED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099-2BA1-4F56-B64F-08D14237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636-F7C7-4F1C-822E-F7BF1C9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156-1D45-4936-A600-1762154B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88000" y="13716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8466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9907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Identify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31240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moved along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4724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3324240" cy="311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2819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C: Identify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124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moves around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181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3867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10824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flipped over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267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9000"/>
            <a:ext cx="1066680" cy="2209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3429000"/>
            <a:ext cx="914400" cy="2209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12408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3124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moves around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8769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895480"/>
            <a:ext cx="99072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7174800">
            <a:off x="2400120" y="3467160"/>
            <a:ext cx="99072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9316400">
            <a:off x="2666880" y="2666520"/>
            <a:ext cx="304920" cy="609840"/>
          </a:xfrm>
          <a:custGeom>
            <a:avLst/>
            <a:gdLst>
              <a:gd name="textAreaLeft" fmla="*/ 0 w 304920"/>
              <a:gd name="textAreaRight" fmla="*/ 213840 w 304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4328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10824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moved along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4343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4880" y="3854520"/>
            <a:ext cx="1066680" cy="1143000"/>
          </a:xfrm>
          <a:prstGeom prst="su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81080" y="3429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438280" y="2362320"/>
            <a:ext cx="1067040" cy="1143000"/>
          </a:xfrm>
          <a:prstGeom prst="su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685800" y="1981080"/>
            <a:ext cx="4648320" cy="3130560"/>
            <a:chOff x="685800" y="1981080"/>
            <a:chExt cx="4648320" cy="3130560"/>
          </a:xfrm>
        </p:grpSpPr>
        <p:sp>
          <p:nvSpPr>
            <p:cNvPr id="191" name=""/>
            <p:cNvSpPr/>
            <p:nvPr/>
          </p:nvSpPr>
          <p:spPr>
            <a:xfrm>
              <a:off x="685800" y="1981080"/>
              <a:ext cx="4648320" cy="31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A full turn is a 360</a:t>
              </a: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otation. So a     tu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s 90°, and a     tu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s 180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276720" y="2395440"/>
              <a:ext cx="1109520" cy="2178000"/>
              <a:chOff x="3276720" y="2395440"/>
              <a:chExt cx="1109520" cy="2178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3276720" y="3505320"/>
                <a:ext cx="838080" cy="1068120"/>
                <a:chOff x="3276720" y="3505320"/>
                <a:chExt cx="838080" cy="1068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352680" y="350532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3276720" y="3581280"/>
                  <a:ext cx="838080" cy="992160"/>
                  <a:chOff x="3276720" y="3581280"/>
                  <a:chExt cx="838080" cy="992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52680" y="3992040"/>
                    <a:ext cx="609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276720" y="3581280"/>
                    <a:ext cx="8380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__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3548160" y="2395440"/>
                <a:ext cx="838080" cy="1068840"/>
                <a:chOff x="3548160" y="2395440"/>
                <a:chExt cx="838080" cy="10688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24120" y="239544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548160" y="2471760"/>
                  <a:ext cx="838080" cy="992520"/>
                  <a:chOff x="3548160" y="2471760"/>
                  <a:chExt cx="838080" cy="9925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624120" y="2882880"/>
                    <a:ext cx="609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548160" y="2471760"/>
                    <a:ext cx="8380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__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3" name=""/>
          <p:cNvGrpSpPr/>
          <p:nvPr/>
        </p:nvGrpSpPr>
        <p:grpSpPr>
          <a:xfrm>
            <a:off x="5585040" y="2567160"/>
            <a:ext cx="1891440" cy="1656720"/>
            <a:chOff x="5585040" y="2567160"/>
            <a:chExt cx="1891440" cy="1656720"/>
          </a:xfrm>
        </p:grpSpPr>
        <p:sp>
          <p:nvSpPr>
            <p:cNvPr id="204" name=""/>
            <p:cNvSpPr/>
            <p:nvPr/>
          </p:nvSpPr>
          <p:spPr>
            <a:xfrm rot="44400">
              <a:off x="5623560" y="2578680"/>
              <a:ext cx="1830960" cy="15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302800">
              <a:off x="5736960" y="2481120"/>
              <a:ext cx="1586880" cy="18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99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553080" y="2209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352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7960" y="3090960"/>
            <a:ext cx="533520" cy="5331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1021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6240" y="2819520"/>
            <a:ext cx="10663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180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6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152280" y="990720"/>
            <a:ext cx="9296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Draw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Draw a 180° rotation about the point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2971800"/>
            <a:ext cx="4572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Place your pencil on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Rotate the figure 180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  <a:ea typeface="Arial"/>
              </a:rPr>
              <a:t>°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42800" y="2590920"/>
            <a:ext cx="1914480" cy="208584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2209680" y="3733920"/>
            <a:ext cx="1752840" cy="2705040"/>
            <a:chOff x="2209680" y="3733920"/>
            <a:chExt cx="1752840" cy="2705040"/>
          </a:xfrm>
        </p:grpSpPr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2209680" y="4524480"/>
              <a:ext cx="17528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438280" y="3733920"/>
              <a:ext cx="635040" cy="546120"/>
            </a:xfrm>
            <a:custGeom>
              <a:avLst/>
              <a:gdLst/>
              <a:ahLst/>
              <a:rect l="l" t="t" r="r" b="b"/>
              <a:pathLst>
                <a:path w="400" h="344">
                  <a:moveTo>
                    <a:pt x="0" y="8"/>
                  </a:moveTo>
                  <a:cubicBezTo>
                    <a:pt x="136" y="4"/>
                    <a:pt x="272" y="0"/>
                    <a:pt x="336" y="56"/>
                  </a:cubicBezTo>
                  <a:cubicBezTo>
                    <a:pt x="400" y="112"/>
                    <a:pt x="392" y="228"/>
                    <a:pt x="384" y="3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0666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Draw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Draw a horizontal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43160"/>
            <a:ext cx="457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old along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1114200" cy="1571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1080" y="335268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209680" y="3556080"/>
            <a:ext cx="10670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9907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Draw a 180° rotation about the point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743200"/>
            <a:ext cx="4572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Place your pencil on the point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Rotate the figure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219680" y="4114800"/>
            <a:ext cx="1890360" cy="1523520"/>
            <a:chOff x="1219680" y="4114800"/>
            <a:chExt cx="1890360" cy="1523520"/>
          </a:xfrm>
        </p:grpSpPr>
        <p:sp>
          <p:nvSpPr>
            <p:cNvPr id="252" name=""/>
            <p:cNvSpPr/>
            <p:nvPr/>
          </p:nvSpPr>
          <p:spPr>
            <a:xfrm flipV="1">
              <a:off x="1695600" y="4494960"/>
              <a:ext cx="1414440" cy="11430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9680" y="4114800"/>
              <a:ext cx="9136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8600" y="3429000"/>
            <a:ext cx="1523880" cy="1114560"/>
            <a:chOff x="228600" y="3429000"/>
            <a:chExt cx="1523880" cy="1114560"/>
          </a:xfrm>
        </p:grpSpPr>
        <p:sp>
          <p:nvSpPr>
            <p:cNvPr id="255" name=""/>
            <p:cNvSpPr/>
            <p:nvPr/>
          </p:nvSpPr>
          <p:spPr>
            <a:xfrm>
              <a:off x="228600" y="3429000"/>
              <a:ext cx="1447920" cy="1066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43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9907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Draw a horizontal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2819520"/>
            <a:ext cx="457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and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old along the line of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ce the figure in its new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43080" y="3575160"/>
            <a:ext cx="1295280" cy="1371600"/>
          </a:xfrm>
          <a:prstGeom prst="pentag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5400000">
            <a:off x="2057400" y="3613320"/>
            <a:ext cx="1295280" cy="1295280"/>
          </a:xfrm>
          <a:prstGeom prst="pentagon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857240" y="342900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143000"/>
            <a:ext cx="7467480" cy="5105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295280" y="2581920"/>
            <a:ext cx="678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Darius can jump 200 times, without a miss, during 20 minutes of jumping rope.  Nastassia can jump rope 100 times, without a miss, for 5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LaDarius maintains this rate for 25 minutes, how many jumps will he have in a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astassia says that if she maintains her rate for 25 minutes, LaDarius will have more jumps than her.  LaDarius says that he will have less umps in a 25-minute period. Who is correc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14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121400"/>
            <a:ext cx="792468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6720" indent="-396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ll whether the figure is translated, rotated, or refle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vertical reflection of the first figure in problem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21531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o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14600" y="2894760"/>
            <a:ext cx="1219320" cy="83844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 rot="16147800">
            <a:off x="4076640" y="2780280"/>
            <a:ext cx="1218960" cy="83844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95480" y="4647600"/>
            <a:ext cx="1219320" cy="6858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5410080"/>
            <a:ext cx="1219320" cy="6858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translations, reflections, and rotations to transform geometric shapes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162920" cy="3200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 of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371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igi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ransform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ves a figure without changing its size or shape. So the original figure and the transformed figure are always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8195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llustrations of the alien will show three transformations: a translation, a rotation, and a reflection. Notice the transformed alien does not change in size or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7920" y="4495680"/>
            <a:ext cx="2162160" cy="19051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rans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movement of a figure along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960" y="2819520"/>
            <a:ext cx="21621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216216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2162160" cy="190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19360" y="3581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8880" y="3581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349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the location of the figure changes with a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838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otati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ovement of a figure around a point. A point of rotation can be on or outside a 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0" y="1676520"/>
            <a:ext cx="4362480" cy="4267080"/>
            <a:chOff x="2286000" y="1676520"/>
            <a:chExt cx="4362480" cy="42670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286000" y="1676520"/>
              <a:ext cx="21621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767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2133720"/>
              <a:ext cx="1066680" cy="838080"/>
            </a:xfrm>
            <a:custGeom>
              <a:avLst/>
              <a:gdLst/>
              <a:ahLst/>
              <a:rect l="l" t="t" r="r" b="b"/>
              <a:pathLst>
                <a:path w="672" h="528">
                  <a:moveTo>
                    <a:pt x="0" y="0"/>
                  </a:moveTo>
                  <a:cubicBezTo>
                    <a:pt x="208" y="4"/>
                    <a:pt x="416" y="8"/>
                    <a:pt x="528" y="96"/>
                  </a:cubicBezTo>
                  <a:cubicBezTo>
                    <a:pt x="640" y="184"/>
                    <a:pt x="656" y="356"/>
                    <a:pt x="672" y="5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200016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76212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cation and position of a figure can change with a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793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figure flips over a line, creating a mirror image, it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l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 the figure is flipped over is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ne of refl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cation and position of a figure change with a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0880" y="2133720"/>
            <a:ext cx="8534160" cy="3848040"/>
            <a:chOff x="380880" y="2133720"/>
            <a:chExt cx="8534160" cy="384804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80880" y="2514600"/>
              <a:ext cx="4762800" cy="19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248520" y="2133720"/>
              <a:ext cx="241920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43200" y="213372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866920" y="403848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990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Identify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each is a translation, rotation, or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5812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The figure is flipped over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ransform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1943280" cy="2781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54356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2:17:35Z</dcterms:created>
  <dc:creator>Laurel Nissen</dc:creator>
  <dc:description/>
  <dc:language>en-US</dc:language>
  <cp:lastModifiedBy> </cp:lastModifiedBy>
  <dcterms:modified xsi:type="dcterms:W3CDTF">2010-03-04T14:45:55Z</dcterms:modified>
  <cp:revision>22</cp:revision>
  <dc:subject/>
  <dc:title>Slide 1</dc:title>
</cp:coreProperties>
</file>